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5.xml.rels" ContentType="application/vnd.openxmlformats-package.relationships+xml"/>
  <Override PartName="/ppt/notesSlides/notesSlide55.xml" ContentType="application/vnd.openxmlformats-officedocument.presentationml.notesSlide+xml"/>
  <Override PartName="/ppt/_rels/presentation.xml.rels" ContentType="application/vnd.openxmlformats-package.relationships+xml"/>
  <Override PartName="/ppt/media/image59.jpeg" ContentType="image/jpeg"/>
  <Override PartName="/ppt/media/image18.png" ContentType="image/png"/>
  <Override PartName="/ppt/media/image6.png" ContentType="image/png"/>
  <Override PartName="/ppt/media/image42.jpeg" ContentType="image/jpeg"/>
  <Override PartName="/ppt/media/image38.jpeg" ContentType="image/jpeg"/>
  <Override PartName="/ppt/media/image7.jpeg" ContentType="image/jpeg"/>
  <Override PartName="/ppt/media/image4.png" ContentType="image/png"/>
  <Override PartName="/ppt/media/image40.jpeg" ContentType="image/jpeg"/>
  <Override PartName="/ppt/media/image13.jpeg" ContentType="image/jpeg"/>
  <Override PartName="/ppt/media/image3.jpeg" ContentType="image/jpeg"/>
  <Override PartName="/ppt/media/image37.jpeg" ContentType="image/jpeg"/>
  <Override PartName="/ppt/media/image24.jpeg" ContentType="image/jpeg"/>
  <Override PartName="/ppt/media/image2.png" ContentType="image/png"/>
  <Override PartName="/ppt/media/image25.jpeg" ContentType="image/jpeg"/>
  <Override PartName="/ppt/media/image32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41.jpeg" ContentType="image/jpeg"/>
  <Override PartName="/ppt/media/image14.jpeg" ContentType="image/jpeg"/>
  <Override PartName="/ppt/media/image62.jpeg" ContentType="image/jpeg"/>
  <Override PartName="/ppt/media/image50.jpeg" ContentType="image/jpeg"/>
  <Override PartName="/ppt/media/image60.png" ContentType="image/png"/>
  <Override PartName="/ppt/media/image26.jpeg" ContentType="image/jpeg"/>
  <Override PartName="/ppt/media/image23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61.jpeg" ContentType="image/jpeg"/>
  <Override PartName="/ppt/media/image17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28.png" ContentType="image/png"/>
  <Override PartName="/ppt/media/image43.jpeg" ContentType="image/jpeg"/>
  <Override PartName="/ppt/media/image8.jpeg" ContentType="image/jpeg"/>
  <Override PartName="/ppt/media/image5.png" ContentType="image/png"/>
  <Override PartName="/ppt/media/image39.jpeg" ContentType="image/jpeg"/>
  <Override PartName="/ppt/media/image27.jpeg" ContentType="image/jpeg"/>
  <Override PartName="/ppt/media/image10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33.jpeg" ContentType="image/jpeg"/>
  <Override PartName="/ppt/media/image34.jpeg" ContentType="image/jpeg"/>
  <Override PartName="/ppt/media/image36.jpeg" ContentType="image/jpeg"/>
  <Override PartName="/ppt/media/image44.jpeg" ContentType="image/jpeg"/>
  <Override PartName="/ppt/media/image45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1.jpeg" ContentType="image/jpeg"/>
  <Override PartName="/ppt/media/image53.jpeg" ContentType="image/jpeg"/>
  <Override PartName="/ppt/media/image54.jpeg" ContentType="image/jpeg"/>
  <Override PartName="/ppt/media/image55.jpeg" ContentType="image/jpeg"/>
  <Override PartName="/ppt/media/image56.jpeg" ContentType="image/jpeg"/>
  <Override PartName="/ppt/media/image63.png" ContentType="image/png"/>
  <Override PartName="/ppt/media/image57.jpeg" ContentType="image/jpeg"/>
  <Override PartName="/ppt/media/image46.jpeg" ContentType="image/jpeg"/>
  <Override PartName="/ppt/media/image5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3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93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R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R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F1D34-3E13-4108-84AF-83461AB57D86}" type="slidenum">
              <a:rPr b="0" lang="sr-Latn-R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200" spc="-1" strike="noStrike">
                <a:solidFill>
                  <a:srgbClr val="000000"/>
                </a:solidFill>
                <a:latin typeface="Calibri"/>
              </a:rPr>
              <a:t>Surgical treat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B062F-7D12-4674-AF1B-DB4660FD16B3}" type="slidenum">
              <a:rPr b="0" lang="sr-Latn-R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5E32-0A9D-4378-A47E-95C75A2AC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672F-40E1-4BF7-B295-2BEFF1492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31A4-9247-4F55-AF57-02016437F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EB6E-2390-4354-88AE-9C9569E0F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25AB-8850-4694-8647-E3A99039D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79D6-384B-4BA2-A0E5-D81DF19C1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4686-77F9-4446-A3CE-814DD6571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1403-2594-4EAD-8D01-8C317775B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0C7B-B4AE-4A3E-92B9-3C3DF7383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054A-989A-47C3-BD80-DBFCD1F19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3A49-AF0E-4330-8240-45AF514A0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B934-672C-42FB-9F0D-E2D6AE6E8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8" descr="LOGO"/>
          <p:cNvPicPr/>
          <p:nvPr/>
        </p:nvPicPr>
        <p:blipFill>
          <a:blip r:embed="rId2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8" descr="LOGO"/>
          <p:cNvPicPr/>
          <p:nvPr/>
        </p:nvPicPr>
        <p:blipFill>
          <a:blip r:embed="rId2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2282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2209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2481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7EF0B-F2FC-4734-904C-F0AF0C8B1EC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png"/><Relationship Id="rId3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57160" y="1285560"/>
            <a:ext cx="7467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ngenital heart dise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f. Dr Violeta Irić</a:t>
            </a:r>
            <a:r>
              <a:rPr b="1" i="1" lang="sr-Latn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Ćupi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NTEGRATED STUDIES OF MEDIC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ek </a:t>
            </a: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unit </a:t>
            </a: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Konverzij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8000" y="1061640"/>
            <a:ext cx="88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hemodynamic disorder in CHD and pathogenes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means that in the arterial circulation despite the existance of a defect, there will be exclusively oxygenated blood and cyanosis will not exist, so it means that CHD will be acyanoge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ever, the venous system will now also contain part of the oxygenated blood that has passed into the venous system due to the existing de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7640" y="1061640"/>
            <a:ext cx="8785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hemodynamic disorder in CHD and pathogenes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fore, now the entire amount of blood from the venous system (both reduced or nonoxygenated and oxygenated blood) will go into the pulmonary circulation in order to be oxygen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the defect is larger, the amount of blood will be larger and the pulmonary circulation will have a greater or huge 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106164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hemodynamic disorder in CHD and pathogenes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is way, the total amount of venous blood will burden the venous and pulmonary circulation, so the pressure in the venous and pulmonary circulation will begin to increas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 some moment, the pressure in the pulmonary and venous circulation will increase so much that it will exceed the pressure in the arterial syste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n the blood flow will start to switch from venous to arterial system, that is, shunt reversion of bloof flow will occ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9280" y="1061640"/>
            <a:ext cx="88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hemodynamic disorder in CHD and pathogenes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the shunt reversion occurs, there will be both oxygenated and non-oxygenated blood in the systemic arterial circulation, so cyanosis will occur and the CHD will become cyanogeni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xception is extremely large defects of the interventricular septum when the right and left ventricle practically functions as one or a common ventricle, so the defect will immediately be cyanogenyc primaril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9280" y="106164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hemodynamic disorder in CHD and pathogenes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rimary cyanogenic CHD with RL shunt, these are extremely large defects or anomalies of large blood vessels when the blood vessels receive blood simultaneously from the arterial and venous systems </a:t>
            </a:r>
            <a:r>
              <a:rPr b="0" lang="sr-Latn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“riding aorta“ in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etralogy of Fallot, Transposition of large blood vessels , Common truncus arteriosus, Common ventricle...</a:t>
            </a:r>
            <a:r>
              <a:rPr b="0" lang="sr-Latn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520" y="457200"/>
            <a:ext cx="8548920" cy="21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etralogy of Fallot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nosi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.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lmonalis, VS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214200" y="2287080"/>
            <a:ext cx="8715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on-simultaneus existe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nosis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pulmonal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xstroposition of the aorta an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ding aort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ver the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ertrophy of the right ventri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560" y="164412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tetra"/>
          <p:cNvPicPr/>
          <p:nvPr/>
        </p:nvPicPr>
        <p:blipFill>
          <a:blip r:embed="rId1"/>
          <a:stretch/>
        </p:blipFill>
        <p:spPr>
          <a:xfrm>
            <a:off x="468360" y="0"/>
            <a:ext cx="7272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7467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trilo"/>
          <p:cNvPicPr/>
          <p:nvPr/>
        </p:nvPicPr>
        <p:blipFill>
          <a:blip r:embed="rId1"/>
          <a:stretch/>
        </p:blipFill>
        <p:spPr>
          <a:xfrm>
            <a:off x="0" y="0"/>
            <a:ext cx="8172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57160" y="1285560"/>
            <a:ext cx="7467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nical manifestation of all cyanogenic CHD</a:t>
            </a:r>
            <a:br>
              <a:rPr sz="2800"/>
            </a:b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lunding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ralogy of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llot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2428920"/>
            <a:ext cx="8229600" cy="438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otro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ow growth and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tig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urrence of respiratory inf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yanosis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ral type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oxemic cri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ldren are playing in crouching 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nical manifestation and physical examination- </a:t>
            </a:r>
            <a:br>
              <a:rPr sz="2800"/>
            </a:br>
            <a:r>
              <a:rPr b="0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entral</a:t>
            </a:r>
            <a:r>
              <a:rPr b="0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peripherial cyano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2" descr="C:\Documents and Settings\Korisnik\My Documents\Picture1.jpg"/>
          <p:cNvPicPr/>
          <p:nvPr/>
        </p:nvPicPr>
        <p:blipFill>
          <a:blip r:embed="rId1"/>
          <a:stretch/>
        </p:blipFill>
        <p:spPr>
          <a:xfrm>
            <a:off x="357120" y="2357280"/>
            <a:ext cx="3787920" cy="42148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4" descr="C:\Documents and Settings\Korisnik\My Documents\Picture2.jpg"/>
          <p:cNvPicPr/>
          <p:nvPr/>
        </p:nvPicPr>
        <p:blipFill>
          <a:blip r:embed="rId2"/>
          <a:stretch/>
        </p:blipFill>
        <p:spPr>
          <a:xfrm>
            <a:off x="4429080" y="2428920"/>
            <a:ext cx="404172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56800" y="1143000"/>
            <a:ext cx="775332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ngenital heart dis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eries of disorders of the anatomical structures of the heart and large blood vessels </a:t>
            </a:r>
            <a:r>
              <a:rPr b="0" lang="sr-Latn-R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with which a child is bo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7639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C:\Documents and Settings\Korisnik\My Documents\800px-ClubbingFingers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42600" y="135684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sical examination: </a:t>
            </a:r>
            <a:br>
              <a:rPr sz="2800"/>
            </a:b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cul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2642760"/>
            <a:ext cx="8229600" cy="417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olic murmur (pulmonary arter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uniqueness of the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99972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agnostic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-360" y="1980720"/>
            <a:ext cx="5435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orat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ensatory polyglobuli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nd very high level of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b, H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 ventricular hypertrophy (RV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graph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mall heart with distinct RV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”</a:t>
            </a: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gged hear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rch of pulmonary artery is mi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hocardiogra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teterisation of the heart and angiocardiograph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ultaneous filling of the aorta and pulmonary arteri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Tetralogy of Fallot"/>
          <p:cNvPicPr/>
          <p:nvPr/>
        </p:nvPicPr>
        <p:blipFill>
          <a:blip r:embed="rId1"/>
          <a:stretch/>
        </p:blipFill>
        <p:spPr>
          <a:xfrm>
            <a:off x="5219640" y="1643040"/>
            <a:ext cx="392436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85520" y="1071720"/>
            <a:ext cx="7467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eatm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urgical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2071800"/>
            <a:ext cx="8229600" cy="47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dical treat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suggested to take crouching position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ranolo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evention of endocardit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ygen thera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</a:t>
            </a: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l surgical correc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latatio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lmonal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sure of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witching the aorta to the left 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lliative interven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astomosis of the aorta and pulmonary artery at the begining and after that intervention, total surgical correc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severe defects with severe anoxic cris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57160" y="1142640"/>
            <a:ext cx="7467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nical course and progno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out surgery children die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infection and CHD complication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ombos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in abscess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terial endocardit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llow-u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0-15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ears after the intervention gives insight into normal physical activities, children grow up normal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e further period, rhythm disturbances are possible, but the long-term prognosis is not entirely cert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rative mortality 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4-10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42600" y="121392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rilogy of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all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nosis of pulmonary artery (mouth) associated wi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ventricle is also enlarged (and 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pertrophy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71320" y="121392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nical manifest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similar as in Tetralog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if the defect is more severe, it is more similar to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til the appearance of anoxemic cris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gns of heart fail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600" y="1050840"/>
            <a:ext cx="87012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sical examination</a:t>
            </a: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gnostic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228240" y="2571480"/>
            <a:ext cx="86295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sical examination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re the s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graph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hocardiography and cateterization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ntricular-pulmonary gradient is specif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 pressure in RV and low in a.pulmonal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85520" y="12855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nical course and progno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2857320"/>
            <a:ext cx="8229600" cy="395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out surgery children die of infection and CHD complications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 heart failure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out surgical treatment the disease progress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right heart fail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l surgical correction</a:t>
            </a: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definitive 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ther primarily cyanogenic CH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position of large blood vesse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on truncus arteriosu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 very large VSD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on ventricle (the existence of one chamb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64000" y="764640"/>
            <a:ext cx="259272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i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Diagram 3" descr=""/>
          <p:cNvPicPr/>
          <p:nvPr/>
        </p:nvPicPr>
        <p:blipFill>
          <a:blip r:embed="rId1"/>
          <a:stretch/>
        </p:blipFill>
        <p:spPr>
          <a:xfrm>
            <a:off x="-12600" y="1695600"/>
            <a:ext cx="9023400" cy="51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ondary cyanogenic CH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enmenger sy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l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2642760"/>
            <a:ext cx="8229600" cy="417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r>
              <a:rPr b="0" lang="sr-Latn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senmenger sy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897.)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s the occurrence of the transition or rever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R shunt to RL shunt in CH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ctus arteriosus persist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CHD with LR shu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nical manifestation:</a:t>
            </a: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ymptoms and signs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isenmenger s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yano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ubbing fingers (digiti hyppocratic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art fail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rdiac arrhythm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IGNS OF CYANOGENIC CHD IN A PATIENT WHO HAD A NON-CYANOGENIC CH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</a:t>
            </a:r>
            <a:r>
              <a:rPr b="0" lang="sr-Latn-R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re the most important signs and most dramatic warning for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</a:t>
            </a:r>
            <a:r>
              <a:rPr b="0" lang="sr-Latn-R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atients and do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7467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4" descr="eisen"/>
          <p:cNvPicPr/>
          <p:nvPr/>
        </p:nvPicPr>
        <p:blipFill>
          <a:blip r:embed="rId1"/>
          <a:stretch/>
        </p:blipFill>
        <p:spPr>
          <a:xfrm>
            <a:off x="250920" y="333360"/>
            <a:ext cx="777708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8600" y="990720"/>
            <a:ext cx="841536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graphy in Eisenmenger s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4" descr="eisen rtg"/>
          <p:cNvPicPr/>
          <p:nvPr/>
        </p:nvPicPr>
        <p:blipFill>
          <a:blip r:embed="rId1"/>
          <a:stretch/>
        </p:blipFill>
        <p:spPr>
          <a:xfrm>
            <a:off x="0" y="1928880"/>
            <a:ext cx="860436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360" y="106164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nical significance of shunt reversal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isenmenger sy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D with LR shunt are successfully treated with surgical correction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shunt reversal occurs, the defect and CHD is no longer operab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only possibility of treating the CHD after shunt reversal (Eisenmenger sy) is HEART AND LUNG TRANSPLA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mptomatic treatment of CHD with RL shunt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eatment of heart fail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vention of endocardit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eatment of bronchopulmonary inf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ygen thera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smapheresis or venipun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n-cyanogenic CHD or CHD with LR sh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P (PD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2560" y="1061640"/>
            <a:ext cx="8543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nical manifes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ymptomatic forms of ASD and V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l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iratory inf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.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til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isenmenger s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14240" y="1238400"/>
            <a:ext cx="746784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4" descr="asd"/>
          <p:cNvPicPr/>
          <p:nvPr/>
        </p:nvPicPr>
        <p:blipFill>
          <a:blip r:embed="rId1"/>
          <a:stretch/>
        </p:blipFill>
        <p:spPr>
          <a:xfrm>
            <a:off x="0" y="1928880"/>
            <a:ext cx="4140360" cy="41148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5" descr="ASD eho"/>
          <p:cNvPicPr/>
          <p:nvPr/>
        </p:nvPicPr>
        <p:blipFill>
          <a:blip r:embed="rId2"/>
          <a:stretch/>
        </p:blipFill>
        <p:spPr>
          <a:xfrm>
            <a:off x="4140360" y="2057400"/>
            <a:ext cx="45720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4" descr="images"/>
          <p:cNvPicPr/>
          <p:nvPr/>
        </p:nvPicPr>
        <p:blipFill>
          <a:blip r:embed="rId1"/>
          <a:stretch/>
        </p:blipFill>
        <p:spPr>
          <a:xfrm>
            <a:off x="1042920" y="0"/>
            <a:ext cx="698508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57160" y="1142640"/>
            <a:ext cx="7467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pidemi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42560" y="1989000"/>
            <a:ext cx="41418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often than all the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have growth trends in the whole Wor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Serbia it 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.4-0.6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ost of them are with the LR shu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60%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urodjene srcane mane"/>
          <p:cNvPicPr/>
          <p:nvPr/>
        </p:nvPicPr>
        <p:blipFill>
          <a:blip r:embed="rId1"/>
          <a:stretch/>
        </p:blipFill>
        <p:spPr>
          <a:xfrm>
            <a:off x="4284720" y="1844640"/>
            <a:ext cx="453528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4" descr="images 2"/>
          <p:cNvPicPr/>
          <p:nvPr/>
        </p:nvPicPr>
        <p:blipFill>
          <a:blip r:embed="rId1"/>
          <a:stretch/>
        </p:blipFill>
        <p:spPr>
          <a:xfrm>
            <a:off x="565200" y="0"/>
            <a:ext cx="8101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42600" y="12855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sical examination and </a:t>
            </a: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scul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2571480"/>
            <a:ext cx="8229600" cy="42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cultat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nt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ne ov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lmonal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jec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rmur ov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lmonal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agnostic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omplete right bundle branch block (RBB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graph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earth of normal size with enlarged R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theteriz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ulmonary blood flow is increased several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228240" y="-360"/>
            <a:ext cx="75438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4" descr="mc462664"/>
          <p:cNvPicPr/>
          <p:nvPr/>
        </p:nvPicPr>
        <p:blipFill>
          <a:blip r:embed="rId1"/>
          <a:stretch/>
        </p:blipFill>
        <p:spPr>
          <a:xfrm>
            <a:off x="539640" y="0"/>
            <a:ext cx="8172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4" descr="images 3"/>
          <p:cNvPicPr/>
          <p:nvPr/>
        </p:nvPicPr>
        <p:blipFill>
          <a:blip r:embed="rId1"/>
          <a:stretch/>
        </p:blipFill>
        <p:spPr>
          <a:xfrm>
            <a:off x="2286000" y="115920"/>
            <a:ext cx="6031080" cy="67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228240" y="1413000"/>
            <a:ext cx="754380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4" descr="ASD-CXR"/>
          <p:cNvPicPr/>
          <p:nvPr/>
        </p:nvPicPr>
        <p:blipFill>
          <a:blip r:embed="rId1"/>
          <a:stretch/>
        </p:blipFill>
        <p:spPr>
          <a:xfrm>
            <a:off x="-190440" y="-1200240"/>
            <a:ext cx="9524880" cy="925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4" descr="ASD"/>
          <p:cNvPicPr/>
          <p:nvPr/>
        </p:nvPicPr>
        <p:blipFill>
          <a:blip r:embed="rId1"/>
          <a:stretch/>
        </p:blipFill>
        <p:spPr>
          <a:xfrm>
            <a:off x="0" y="0"/>
            <a:ext cx="8172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4" descr="ASD"/>
          <p:cNvPicPr/>
          <p:nvPr/>
        </p:nvPicPr>
        <p:blipFill>
          <a:blip r:embed="rId1"/>
          <a:stretch/>
        </p:blipFill>
        <p:spPr>
          <a:xfrm>
            <a:off x="0" y="0"/>
            <a:ext cx="8172360" cy="6858000"/>
          </a:xfrm>
          <a:prstGeom prst="rect">
            <a:avLst/>
          </a:prstGeom>
          <a:ln w="0">
            <a:noFill/>
          </a:ln>
        </p:spPr>
      </p:pic>
      <p:sp>
        <p:nvSpPr>
          <p:cNvPr id="193" name="Line 14"/>
          <p:cNvSpPr/>
          <p:nvPr/>
        </p:nvSpPr>
        <p:spPr>
          <a:xfrm flipV="1">
            <a:off x="1258920" y="2420640"/>
            <a:ext cx="1512720" cy="115236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4" descr="5"/>
          <p:cNvPicPr/>
          <p:nvPr/>
        </p:nvPicPr>
        <p:blipFill>
          <a:blip r:embed="rId1"/>
          <a:stretch/>
        </p:blipFill>
        <p:spPr>
          <a:xfrm>
            <a:off x="395280" y="260280"/>
            <a:ext cx="3708360" cy="64087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5" descr="ASD3L"/>
          <p:cNvPicPr/>
          <p:nvPr/>
        </p:nvPicPr>
        <p:blipFill>
          <a:blip r:embed="rId2"/>
          <a:stretch/>
        </p:blipFill>
        <p:spPr>
          <a:xfrm>
            <a:off x="4716360" y="189000"/>
            <a:ext cx="424980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4" descr="images 11"/>
          <p:cNvPicPr/>
          <p:nvPr/>
        </p:nvPicPr>
        <p:blipFill>
          <a:blip r:embed="rId1"/>
          <a:stretch/>
        </p:blipFill>
        <p:spPr>
          <a:xfrm>
            <a:off x="4788000" y="0"/>
            <a:ext cx="4289400" cy="68580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" descr="Primum-ASD"/>
          <p:cNvPicPr/>
          <p:nvPr/>
        </p:nvPicPr>
        <p:blipFill>
          <a:blip r:embed="rId2"/>
          <a:stretch/>
        </p:blipFill>
        <p:spPr>
          <a:xfrm>
            <a:off x="255600" y="0"/>
            <a:ext cx="3780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57160" y="1285560"/>
            <a:ext cx="7467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nical course an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no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28760" y="2642760"/>
            <a:ext cx="8229600" cy="178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 of them are incompatible with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 of them are compati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 disrupt the childʼs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 defects are well tolerated until 2nd or 3rd decade of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 of them are very small defects, so they do not have any hemodynamic signific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4" descr="Figure 5"/>
          <p:cNvPicPr/>
          <p:nvPr/>
        </p:nvPicPr>
        <p:blipFill>
          <a:blip r:embed="rId1"/>
          <a:stretch/>
        </p:blipFill>
        <p:spPr>
          <a:xfrm>
            <a:off x="0" y="0"/>
            <a:ext cx="8748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4" descr="Primum-ASD-L-R-Shunt"/>
          <p:cNvPicPr/>
          <p:nvPr/>
        </p:nvPicPr>
        <p:blipFill>
          <a:blip r:embed="rId1"/>
          <a:stretch/>
        </p:blipFill>
        <p:spPr>
          <a:xfrm>
            <a:off x="539640" y="189000"/>
            <a:ext cx="766764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4" descr="images 7"/>
          <p:cNvPicPr/>
          <p:nvPr/>
        </p:nvPicPr>
        <p:blipFill>
          <a:blip r:embed="rId1"/>
          <a:stretch/>
        </p:blipFill>
        <p:spPr>
          <a:xfrm>
            <a:off x="250920" y="260280"/>
            <a:ext cx="824364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85520" y="1125360"/>
            <a:ext cx="746748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ea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700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the defect is hemodynamically significant, </a:t>
            </a: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only adequate treatment is surg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rgically closing the defect before starting school or earlier (if pulmonary hypertension develops, intervention is no longer indicat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4" descr="tga_intact_vs_postop"/>
          <p:cNvPicPr/>
          <p:nvPr/>
        </p:nvPicPr>
        <p:blipFill>
          <a:blip r:embed="rId1"/>
          <a:stretch/>
        </p:blipFill>
        <p:spPr>
          <a:xfrm>
            <a:off x="5796000" y="3378240"/>
            <a:ext cx="2376360" cy="34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0" y="1061640"/>
            <a:ext cx="914400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36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4" descr="asd-closure-www-drsvenkatesan-com"/>
          <p:cNvPicPr/>
          <p:nvPr/>
        </p:nvPicPr>
        <p:blipFill>
          <a:blip r:embed="rId1"/>
          <a:stretch/>
        </p:blipFill>
        <p:spPr>
          <a:xfrm>
            <a:off x="285840" y="1125360"/>
            <a:ext cx="817236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85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hods and approach of surgical and non-surgical trea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4" descr="asd-closure-surgery1"/>
          <p:cNvPicPr/>
          <p:nvPr/>
        </p:nvPicPr>
        <p:blipFill>
          <a:blip r:embed="rId1"/>
          <a:stretch/>
        </p:blipFill>
        <p:spPr>
          <a:xfrm>
            <a:off x="3000240" y="2133720"/>
            <a:ext cx="2100240" cy="37162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minimalinvasiv_vorhof"/>
          <p:cNvPicPr/>
          <p:nvPr/>
        </p:nvPicPr>
        <p:blipFill>
          <a:blip r:embed="rId2"/>
          <a:stretch/>
        </p:blipFill>
        <p:spPr>
          <a:xfrm>
            <a:off x="5572080" y="2884320"/>
            <a:ext cx="3032280" cy="39736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4" descr="img_cardiac_open"/>
          <p:cNvPicPr/>
          <p:nvPr/>
        </p:nvPicPr>
        <p:blipFill>
          <a:blip r:embed="rId3"/>
          <a:stretch/>
        </p:blipFill>
        <p:spPr>
          <a:xfrm>
            <a:off x="468360" y="1592280"/>
            <a:ext cx="21430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-surgical procedure</a:t>
            </a:r>
            <a:br>
              <a:rPr sz="2800"/>
            </a:b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eptal occluders (without opening the chest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4" descr="images 8"/>
          <p:cNvPicPr/>
          <p:nvPr/>
        </p:nvPicPr>
        <p:blipFill>
          <a:blip r:embed="rId1"/>
          <a:stretch/>
        </p:blipFill>
        <p:spPr>
          <a:xfrm>
            <a:off x="3995640" y="2428920"/>
            <a:ext cx="4321440" cy="37861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5" descr="Nitinol-ASD-device-closure"/>
          <p:cNvPicPr/>
          <p:nvPr/>
        </p:nvPicPr>
        <p:blipFill>
          <a:blip r:embed="rId2"/>
          <a:stretch/>
        </p:blipFill>
        <p:spPr>
          <a:xfrm>
            <a:off x="395280" y="2276640"/>
            <a:ext cx="352908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-surgical procedure</a:t>
            </a: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ptal occluders</a:t>
            </a: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4" descr="helex"/>
          <p:cNvPicPr/>
          <p:nvPr/>
        </p:nvPicPr>
        <p:blipFill>
          <a:blip r:embed="rId1"/>
          <a:stretch/>
        </p:blipFill>
        <p:spPr>
          <a:xfrm>
            <a:off x="900000" y="2421000"/>
            <a:ext cx="657252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4" descr="images 1"/>
          <p:cNvPicPr/>
          <p:nvPr/>
        </p:nvPicPr>
        <p:blipFill>
          <a:blip r:embed="rId1"/>
          <a:stretch/>
        </p:blipFill>
        <p:spPr>
          <a:xfrm>
            <a:off x="324000" y="0"/>
            <a:ext cx="77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4" descr="images 9"/>
          <p:cNvPicPr/>
          <p:nvPr/>
        </p:nvPicPr>
        <p:blipFill>
          <a:blip r:embed="rId1"/>
          <a:stretch/>
        </p:blipFill>
        <p:spPr>
          <a:xfrm>
            <a:off x="0" y="189000"/>
            <a:ext cx="853272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ification of congenital heart dise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0" lang="sr-Latn-R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efects with cyanos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fects with RL shun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ood flow from venous to the arterial syste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-2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------------------------------------------------------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efects with</a:t>
            </a:r>
            <a:r>
              <a:rPr b="0" lang="sr-Latn-R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ut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cyanos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fects with LR shun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lood flow from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erial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the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nou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ystem)-50-6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0" lang="en-US" sz="2400" spc="-1" strike="noStrike">
                <a:solidFill>
                  <a:srgbClr val="72bfc5"/>
                </a:solidFill>
                <a:latin typeface="Times New Roman"/>
                <a:ea typeface="Times New Roman"/>
              </a:rPr>
              <a:t>Defects without </a:t>
            </a:r>
            <a:r>
              <a:rPr b="0" lang="sr-Latn-RS" sz="2400" spc="-1" strike="noStrike">
                <a:solidFill>
                  <a:srgbClr val="72bfc5"/>
                </a:solidFill>
                <a:latin typeface="Times New Roman"/>
                <a:ea typeface="Times New Roman"/>
              </a:rPr>
              <a:t>shunt</a:t>
            </a:r>
            <a:r>
              <a:rPr b="0" lang="en-US" sz="2400" spc="-1" strike="noStrike">
                <a:solidFill>
                  <a:srgbClr val="72bfc5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-15-2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lex def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ventric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 triatriatu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atomic anomaly of coronary artery vessels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50920" y="873000"/>
            <a:ext cx="8678880" cy="91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agnostic and therapeutic proce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4" descr="ASD_Verschluss"/>
          <p:cNvPicPr/>
          <p:nvPr/>
        </p:nvPicPr>
        <p:blipFill>
          <a:blip r:embed="rId1"/>
          <a:stretch/>
        </p:blipFill>
        <p:spPr>
          <a:xfrm>
            <a:off x="0" y="1714680"/>
            <a:ext cx="817236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" descr="images 4"/>
          <p:cNvPicPr/>
          <p:nvPr/>
        </p:nvPicPr>
        <p:blipFill>
          <a:blip r:embed="rId1"/>
          <a:stretch/>
        </p:blipFill>
        <p:spPr>
          <a:xfrm>
            <a:off x="0" y="0"/>
            <a:ext cx="8317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240" y="260280"/>
            <a:ext cx="7543800" cy="58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4" descr="bas"/>
          <p:cNvPicPr/>
          <p:nvPr/>
        </p:nvPicPr>
        <p:blipFill>
          <a:blip r:embed="rId1"/>
          <a:stretch/>
        </p:blipFill>
        <p:spPr>
          <a:xfrm>
            <a:off x="2576520" y="404640"/>
            <a:ext cx="56674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4" descr="images 10"/>
          <p:cNvPicPr/>
          <p:nvPr/>
        </p:nvPicPr>
        <p:blipFill>
          <a:blip r:embed="rId1"/>
          <a:stretch/>
        </p:blipFill>
        <p:spPr>
          <a:xfrm>
            <a:off x="0" y="0"/>
            <a:ext cx="8317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99680" y="114264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gical correction of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4" descr="img_cardiac_open"/>
          <p:cNvPicPr/>
          <p:nvPr/>
        </p:nvPicPr>
        <p:blipFill>
          <a:blip r:embed="rId1"/>
          <a:stretch/>
        </p:blipFill>
        <p:spPr>
          <a:xfrm>
            <a:off x="3772080" y="2249640"/>
            <a:ext cx="440028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4" descr="sunday-or-21"/>
          <p:cNvPicPr/>
          <p:nvPr/>
        </p:nvPicPr>
        <p:blipFill>
          <a:blip r:embed="rId1"/>
          <a:stretch/>
        </p:blipFill>
        <p:spPr>
          <a:xfrm>
            <a:off x="-987480" y="-739800"/>
            <a:ext cx="11118960" cy="83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4" descr="op na srcu"/>
          <p:cNvPicPr/>
          <p:nvPr/>
        </p:nvPicPr>
        <p:blipFill>
          <a:blip r:embed="rId1"/>
          <a:stretch/>
        </p:blipFill>
        <p:spPr>
          <a:xfrm>
            <a:off x="0" y="0"/>
            <a:ext cx="8317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228240" y="1628280"/>
            <a:ext cx="754380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4" descr="2137_fig_4_med"/>
          <p:cNvPicPr/>
          <p:nvPr/>
        </p:nvPicPr>
        <p:blipFill>
          <a:blip r:embed="rId1"/>
          <a:stretch/>
        </p:blipFill>
        <p:spPr>
          <a:xfrm>
            <a:off x="250920" y="0"/>
            <a:ext cx="8137440" cy="66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4" descr="Bypass-Surgery"/>
          <p:cNvPicPr/>
          <p:nvPr/>
        </p:nvPicPr>
        <p:blipFill>
          <a:blip r:embed="rId1"/>
          <a:stretch/>
        </p:blipFill>
        <p:spPr>
          <a:xfrm>
            <a:off x="0" y="0"/>
            <a:ext cx="8244000" cy="67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4" descr="images 6"/>
          <p:cNvPicPr/>
          <p:nvPr/>
        </p:nvPicPr>
        <p:blipFill>
          <a:blip r:embed="rId1"/>
          <a:stretch/>
        </p:blipFill>
        <p:spPr>
          <a:xfrm>
            <a:off x="0" y="0"/>
            <a:ext cx="8388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856800"/>
            <a:ext cx="823104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ification of congenital heart dis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Diagram 3" descr=""/>
          <p:cNvPicPr/>
          <p:nvPr/>
        </p:nvPicPr>
        <p:blipFill>
          <a:blip r:embed="rId1"/>
          <a:stretch/>
        </p:blipFill>
        <p:spPr>
          <a:xfrm>
            <a:off x="176040" y="1700280"/>
            <a:ext cx="8682120" cy="46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4" descr="closure-fig3"/>
          <p:cNvPicPr/>
          <p:nvPr/>
        </p:nvPicPr>
        <p:blipFill>
          <a:blip r:embed="rId1"/>
          <a:stretch/>
        </p:blipFill>
        <p:spPr>
          <a:xfrm>
            <a:off x="42840" y="9360"/>
            <a:ext cx="9058320" cy="683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228240" y="-360"/>
            <a:ext cx="75438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4" descr="mitral-fig7"/>
          <p:cNvPicPr/>
          <p:nvPr/>
        </p:nvPicPr>
        <p:blipFill>
          <a:blip r:embed="rId1"/>
          <a:stretch/>
        </p:blipFill>
        <p:spPr>
          <a:xfrm>
            <a:off x="0" y="0"/>
            <a:ext cx="8388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4" descr="gunner"/>
          <p:cNvPicPr/>
          <p:nvPr/>
        </p:nvPicPr>
        <p:blipFill>
          <a:blip r:embed="rId1"/>
          <a:stretch/>
        </p:blipFill>
        <p:spPr>
          <a:xfrm>
            <a:off x="-3048120" y="-2286000"/>
            <a:ext cx="15240240" cy="1143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4" descr="live_photo2249470"/>
          <p:cNvPicPr/>
          <p:nvPr/>
        </p:nvPicPr>
        <p:blipFill>
          <a:blip r:embed="rId1"/>
          <a:stretch/>
        </p:blipFill>
        <p:spPr>
          <a:xfrm>
            <a:off x="0" y="115920"/>
            <a:ext cx="3851280" cy="655308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5" descr="shalini"/>
          <p:cNvPicPr/>
          <p:nvPr/>
        </p:nvPicPr>
        <p:blipFill>
          <a:blip r:embed="rId2"/>
          <a:stretch/>
        </p:blipFill>
        <p:spPr>
          <a:xfrm>
            <a:off x="4284720" y="260280"/>
            <a:ext cx="424800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4" descr="hs"/>
          <p:cNvPicPr/>
          <p:nvPr/>
        </p:nvPicPr>
        <p:blipFill>
          <a:blip r:embed="rId1"/>
          <a:stretch/>
        </p:blipFill>
        <p:spPr>
          <a:xfrm>
            <a:off x="0" y="0"/>
            <a:ext cx="8388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4" descr="woman-heart-surgery-scar"/>
          <p:cNvPicPr/>
          <p:nvPr/>
        </p:nvPicPr>
        <p:blipFill>
          <a:blip r:embed="rId1"/>
          <a:stretch/>
        </p:blipFill>
        <p:spPr>
          <a:xfrm>
            <a:off x="1908000" y="0"/>
            <a:ext cx="6336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4" descr="en_07f3b"/>
          <p:cNvPicPr/>
          <p:nvPr/>
        </p:nvPicPr>
        <p:blipFill>
          <a:blip r:embed="rId1"/>
          <a:stretch/>
        </p:blipFill>
        <p:spPr>
          <a:xfrm>
            <a:off x="755640" y="1125360"/>
            <a:ext cx="777708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4" descr="asd-device-closure-4"/>
          <p:cNvPicPr/>
          <p:nvPr/>
        </p:nvPicPr>
        <p:blipFill>
          <a:blip r:embed="rId1"/>
          <a:stretch/>
        </p:blipFill>
        <p:spPr>
          <a:xfrm>
            <a:off x="250920" y="115920"/>
            <a:ext cx="7705800" cy="67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4" descr="RPY_SUPERMAN_ALEX_BRIGGS_JP03"/>
          <p:cNvPicPr/>
          <p:nvPr/>
        </p:nvPicPr>
        <p:blipFill>
          <a:blip r:embed="rId1"/>
          <a:stretch/>
        </p:blipFill>
        <p:spPr>
          <a:xfrm>
            <a:off x="1619280" y="115920"/>
            <a:ext cx="5689440" cy="67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14240" y="1142640"/>
            <a:ext cx="7467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ect of membranous or muscular part of interventricular sept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the most common CHD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-60%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closed spontaneusly during grow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240" y="785520"/>
            <a:ext cx="7467480" cy="96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Congenital heart disease with cyano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Diagram 3" descr=""/>
          <p:cNvPicPr/>
          <p:nvPr/>
        </p:nvPicPr>
        <p:blipFill>
          <a:blip r:embed="rId1"/>
          <a:stretch/>
        </p:blipFill>
        <p:spPr>
          <a:xfrm>
            <a:off x="212760" y="1987560"/>
            <a:ext cx="864540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42600" y="12855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4" descr="vsd"/>
          <p:cNvPicPr/>
          <p:nvPr/>
        </p:nvPicPr>
        <p:blipFill>
          <a:blip r:embed="rId1"/>
          <a:stretch/>
        </p:blipFill>
        <p:spPr>
          <a:xfrm>
            <a:off x="0" y="1981080"/>
            <a:ext cx="4140360" cy="411480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5" descr="vsd memb"/>
          <p:cNvPicPr/>
          <p:nvPr/>
        </p:nvPicPr>
        <p:blipFill>
          <a:blip r:embed="rId2"/>
          <a:stretch/>
        </p:blipFill>
        <p:spPr>
          <a:xfrm>
            <a:off x="4191120" y="1700280"/>
            <a:ext cx="472428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85840" y="1142640"/>
            <a:ext cx="848664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sical examination </a:t>
            </a: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diagnostic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23400" y="1989000"/>
            <a:ext cx="43434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uscult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arse systolic murmur in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V ICA, propagation in all direc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Е</a:t>
            </a:r>
            <a:r>
              <a:rPr b="0" lang="sr-Latn-R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ertrophy of left and right ventri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adiography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nlarged both ventric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chocardiogra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atheteriz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atheter from the right ventricle enters to the left ventricle and the aor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1028" descr=""/>
          <p:cNvPicPr/>
          <p:nvPr/>
        </p:nvPicPr>
        <p:blipFill>
          <a:blip r:embed="rId1"/>
          <a:stretch/>
        </p:blipFill>
        <p:spPr>
          <a:xfrm>
            <a:off x="4714920" y="2428920"/>
            <a:ext cx="388944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42600" y="1341360"/>
            <a:ext cx="680868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nical course and prognosi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mall defec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 slightly increased pulmonary blood flow) stays asymptomatic during whole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 def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eart fail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ter the development of pulmonary hypertension occ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ap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rly interven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sure of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uctus arteriosus persist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a muscular vessel between the descending aorta and the pulmonary artery which is needed in fetal life and in the postnatal period it closes normally for 15 min to 3 months of life (at first functionally, than anatomical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enough vasoconstrictors and musc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s failure to close results in CHD with LR shunt (temporary pulmonary hypertens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7467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4" descr="ductus"/>
          <p:cNvPicPr/>
          <p:nvPr/>
        </p:nvPicPr>
        <p:blipFill>
          <a:blip r:embed="rId1"/>
          <a:stretch/>
        </p:blipFill>
        <p:spPr>
          <a:xfrm>
            <a:off x="684360" y="549360"/>
            <a:ext cx="662436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agnostic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457200" y="2928600"/>
            <a:ext cx="8229600" cy="38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Е</a:t>
            </a:r>
            <a:r>
              <a:rPr b="0" lang="sr-Latn-R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 LV hypertro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adiography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: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larged LV, prominent arch of the pulmonary art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atheteris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rast flow from aorta to the pulmonary art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7467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gical treat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gation or cutting of the ca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operative morta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0.5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A SINGLE CHILD WITH THIS DEFECT SHOULD NOT BE UNOPERATE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7467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ortic coarc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228240" y="2143080"/>
            <a:ext cx="4414680" cy="39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constriction of the lumen of the aorta in the region of th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g.arteriosu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tachment or in any other place of the aor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ood circulation in the distal part of the aorta is maintained by collateral blood 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4" descr="koarkt"/>
          <p:cNvPicPr/>
          <p:nvPr/>
        </p:nvPicPr>
        <p:blipFill>
          <a:blip r:embed="rId1"/>
          <a:stretch/>
        </p:blipFill>
        <p:spPr>
          <a:xfrm>
            <a:off x="4788000" y="1905120"/>
            <a:ext cx="396072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42600" y="121392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sical exam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2287080"/>
            <a:ext cx="840096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crepancy in the development of the upper and lower extremities (hypertrophy of the upper and hypotrophy of the lower exstremiti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 blood pressure values measured at the upper exstremities and low blood pressure values measured at the lower exstrem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cultat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olic murmur over the aorta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nted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 tone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ver th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or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3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agnostic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228240" y="2571840"/>
            <a:ext cx="3335400" cy="39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ormal or hypertrophic 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graph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larged L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tstenotic aortic dilat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rdiac catheter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Picture 4" descr="koart CT"/>
          <p:cNvPicPr/>
          <p:nvPr/>
        </p:nvPicPr>
        <p:blipFill>
          <a:blip r:embed="rId1"/>
          <a:stretch/>
        </p:blipFill>
        <p:spPr>
          <a:xfrm>
            <a:off x="3708360" y="1714680"/>
            <a:ext cx="495288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106164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hemodynamic disorder in CHD and pathogenes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there is a defect in any part between the arterial and venous system, the blood will always move from the area of higher pressure to the area where the pressure is low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ce the pressure in the arterial system is higher, blood will move from the arterial system (oxygenated blood) to the venous system (reduced or unoxygenated bloo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7467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ea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gical interven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cision of the narrowed part of the aorta with terminoterminal su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surgical intervention-dilatation with stenting of the narrowed part of the aor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typical auscultatory finding in CH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214200" y="2287080"/>
            <a:ext cx="87868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olic nurmur over a. pulmonal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sr-C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</a:t>
            </a:r>
            <a:r>
              <a:rPr b="0" lang="sr-Latn-R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F</a:t>
            </a:r>
            <a:r>
              <a:rPr b="0" lang="sr-C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, Т</a:t>
            </a:r>
            <a:r>
              <a:rPr b="0" lang="sr-Latn-R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F</a:t>
            </a:r>
            <a:r>
              <a:rPr b="0" lang="sr-C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, А</a:t>
            </a:r>
            <a:r>
              <a:rPr b="0" lang="sr-Latn-R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olic murmur (V ICA) propagating in all directions like overrun wheel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</a:t>
            </a:r>
            <a:r>
              <a:rPr b="0" lang="sr-Latn-R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S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nel murmur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terfall noise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sr-Latn-R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8501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28240" y="928800"/>
            <a:ext cx="74674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ost important thing is the end resul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4" descr="RPY_SUPERMAN_ALEX_BRIGGS_JP03"/>
          <p:cNvPicPr/>
          <p:nvPr/>
        </p:nvPicPr>
        <p:blipFill>
          <a:blip r:embed="rId1"/>
          <a:stretch/>
        </p:blipFill>
        <p:spPr>
          <a:xfrm>
            <a:off x="3132000" y="1916280"/>
            <a:ext cx="28958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1T19:29:08Z</dcterms:created>
  <dc:creator>Korisnik</dc:creator>
  <dc:description/>
  <dc:language>en-US</dc:language>
  <cp:lastModifiedBy>Violeta</cp:lastModifiedBy>
  <dcterms:modified xsi:type="dcterms:W3CDTF">2023-08-19T17:25:28Z</dcterms:modified>
  <cp:revision>218</cp:revision>
  <dc:subject/>
  <dc:title>Urodjene srcane mane</dc:title>
</cp:coreProperties>
</file>