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2.jpeg" ContentType="image/jpeg"/>
  <Override PartName="/ppt/media/image50.jpeg" ContentType="image/jpeg"/>
  <Override PartName="/ppt/media/image60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3.png" ContentType="image/png"/>
  <Override PartName="/ppt/media/image57.jpeg" ContentType="image/jpeg"/>
  <Override PartName="/ppt/media/image46.jpeg" ContentType="image/jpeg"/>
  <Override PartName="/ppt/media/image5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9823-102A-4FBE-9BCE-3F1A63AF2B8F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A984-8231-418D-936E-F9580A8D24D8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5D7-F1BD-4AF4-9C43-87AA709A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F46-8429-498F-BF97-A847E27D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E54-0462-4C98-93A1-D4CB61BF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168-4683-46D2-8CF5-419D3D9C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A8F-D47A-4E1B-B619-69F66E08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D5B-566A-4DF7-A1D5-1BEDAFB0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D77-2DA4-4A66-8ECF-45529BF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F7D-424A-4143-9E70-C0F993FE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D05-4EF4-40C6-AFA5-756D484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C9F-BC4B-47B1-9894-87859848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23D-9095-4E26-8994-FA06369B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892-E000-4B39-8D98-ABEB74F9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4F43-F457-49C9-90EF-4351FDFFDC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up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it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Konverzij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in the arterial circulation despite the existance of a defect, there will be exclusively oxygenated blood and cyanosis will not exist, so it means that CHD will be acyan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venous system will now also contain part of the oxygenated blood that has passed into the venous system due to the existing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1061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now the entire amount of blood from the venous system (both reduced or nonoxygenated and oxygenated blood) will go into the pulmonary circulation in order to be oxyg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larger, the amount of blood will be larger and the pulmonary circulation will have a greater or hug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the total amount of venous blood will burden the venous and pulmonary circulation, so the pressure in the venous and pulmonary circulation will begin to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ome moment, the pressure in the pulmonary and venous circulation will increase so much that it will exceed the pressure in the arteri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blood flow will start to switch from venous to arterial system, that is, shunt reversion of bloof flow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hunt reversion occurs, there will be both oxygenated and non-oxygenated blood in the systemic arterial circulation, so cyanosis will occur and the CHD will become cyano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eption is extremely large defects of the interventricular septum when the right and left ventricle practically functions as one or a common ventricle, so the defect will immediately be cyanogenyc primar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imary cyanogenic CHD with RL shunt, these are extremely large defects or anomalies of large blood vessels when the blood vessels receive blood simultaneously from the arterial and venous systems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riding aorta“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etralogy of Fallot, Transposition of large blood vessels , Common truncus arteriosus, Common ventricle...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4892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logy of Fall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, V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-simultaneus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stroposition of the aorta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ing 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the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644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tetra"/>
          <p:cNvPicPr/>
          <p:nvPr/>
        </p:nvPicPr>
        <p:blipFill>
          <a:blip r:embed="rId1"/>
          <a:stretch/>
        </p:blipFill>
        <p:spPr>
          <a:xfrm>
            <a:off x="46836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ilo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all cyanogenic CHD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nding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alogy of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t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rowt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ce of 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typ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xemic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playing in crouch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and physical examination- </a:t>
            </a:r>
            <a:br>
              <a:rPr sz="2800"/>
            </a:b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ral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ipherial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Korisnik\My Documents\Picture1.jpg"/>
          <p:cNvPicPr/>
          <p:nvPr/>
        </p:nvPicPr>
        <p:blipFill>
          <a:blip r:embed="rId1"/>
          <a:stretch/>
        </p:blipFill>
        <p:spPr>
          <a:xfrm>
            <a:off x="357120" y="2357280"/>
            <a:ext cx="378792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Korisnik\My Documents\Picture2.jpg"/>
          <p:cNvPicPr/>
          <p:nvPr/>
        </p:nvPicPr>
        <p:blipFill>
          <a:blip r:embed="rId2"/>
          <a:stretch/>
        </p:blipFill>
        <p:spPr>
          <a:xfrm>
            <a:off x="4429080" y="242892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7753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disorders of the anatomical structures of the heart and large blood vessels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which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Korisnik\My Documents\800px-ClubbingFinger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13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: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pulmonary art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queness of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98072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y polyglobul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nd very high level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, H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hypertrophy (RV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heart with distinct RV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”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ged he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 of pulmonary artery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terisation of the heart and angiocardiograph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filling of the aorta and pulmonary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etralogy of Fallot"/>
          <p:cNvPicPr/>
          <p:nvPr/>
        </p:nvPicPr>
        <p:blipFill>
          <a:blip r:embed="rId1"/>
          <a:stretch/>
        </p:blipFill>
        <p:spPr>
          <a:xfrm>
            <a:off x="5219640" y="1643040"/>
            <a:ext cx="3924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gic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uggested to take crouching posi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ol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ion of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the aorta to the lef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i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stomosis of the aorta and pulmonary artery at the begining and after that intervention, to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vere defects with severe anox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fection and CHD compli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abs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-15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after the intervention gives insight into normal physical activities, children grow up 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rther period, rhythm disturbances are possible, but the long-term prognosis is not entirel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e mortalit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logy o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of pulmonary artery (mouth) associated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ventricle is also enlarged (and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ro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imilar as in Tetra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f the defect is more severe, it is more similar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the appearance of anoxem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s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01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571480"/>
            <a:ext cx="8629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 and cateteriza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-pulmonary gradient is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in RV and low in a.pulmon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8573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of infection and CHD complication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heart failur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ical treatment the disease progres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ight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it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primarily cyanogenic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sition of large blood vess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truncus arteri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ry large VS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ventricle (the existence of one cha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64000" y="764640"/>
            <a:ext cx="259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-12600" y="1695600"/>
            <a:ext cx="9163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cyanogenic CH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nmenger s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enmenger s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97.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the occurrence of the transition or r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 shunt to RL shunt in C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HD with LR s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: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ptoms and sign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bbing fingers (digiti hyppocra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GNS OF CYANOGENIC CHD IN A PATIENT WHO HAD A NON-CYANOGENIC C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the most important signs and most dramatic warning fo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ients and do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isen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415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 in 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isen rtg"/>
          <p:cNvPicPr/>
          <p:nvPr/>
        </p:nvPicPr>
        <p:blipFill>
          <a:blip r:embed="rId1"/>
          <a:stretch/>
        </p:blipFill>
        <p:spPr>
          <a:xfrm>
            <a:off x="0" y="1928880"/>
            <a:ext cx="860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061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ificance of shunt reversa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D with LR shunt are successfully treated with surgical correctio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hunt reversal occurs, the defect and CHD is no longer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possibility of treating the CHD after shunt reversal (Eisenmenger sy) is HEART AND LUNG TRANS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treatment of CHD with RL shu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bronchopulmona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pheresis or veni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cyanogenic CHD or CHD with LR s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 (P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0616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forms of ASD and 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123840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sd"/>
          <p:cNvPicPr/>
          <p:nvPr/>
        </p:nvPicPr>
        <p:blipFill>
          <a:blip r:embed="rId1"/>
          <a:stretch/>
        </p:blipFill>
        <p:spPr>
          <a:xfrm>
            <a:off x="0" y="19288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SD eho"/>
          <p:cNvPicPr/>
          <p:nvPr/>
        </p:nvPicPr>
        <p:blipFill>
          <a:blip r:embed="rId2"/>
          <a:stretch/>
        </p:blipFill>
        <p:spPr>
          <a:xfrm>
            <a:off x="4140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s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560" y="1989000"/>
            <a:ext cx="41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ten than all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growth trends in the whol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bia i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-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of them are with the LR sh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rodjene srcane mane"/>
          <p:cNvPicPr/>
          <p:nvPr/>
        </p:nvPicPr>
        <p:blipFill>
          <a:blip r:embed="rId1"/>
          <a:stretch/>
        </p:blipFill>
        <p:spPr>
          <a:xfrm>
            <a:off x="4284720" y="1844640"/>
            <a:ext cx="4535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images 2"/>
          <p:cNvPicPr/>
          <p:nvPr/>
        </p:nvPicPr>
        <p:blipFill>
          <a:blip r:embed="rId1"/>
          <a:stretch/>
        </p:blipFill>
        <p:spPr>
          <a:xfrm>
            <a:off x="56520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and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7148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e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mur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right bundle branch block (RB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h of normal size with enlarged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monary blood flow is increased severa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c462664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mages 3"/>
          <p:cNvPicPr/>
          <p:nvPr/>
        </p:nvPicPr>
        <p:blipFill>
          <a:blip r:embed="rId1"/>
          <a:stretch/>
        </p:blipFill>
        <p:spPr>
          <a:xfrm>
            <a:off x="2286000" y="115920"/>
            <a:ext cx="6031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2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SD-CXR"/>
          <p:cNvPicPr/>
          <p:nvPr/>
        </p:nvPicPr>
        <p:blipFill>
          <a:blip r:embed="rId1"/>
          <a:stretch/>
        </p:blipFill>
        <p:spPr>
          <a:xfrm>
            <a:off x="-190440" y="-1200240"/>
            <a:ext cx="9524880" cy="9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Line 14"/>
          <p:cNvSpPr/>
          <p:nvPr/>
        </p:nvSpPr>
        <p:spPr>
          <a:xfrm flipV="1">
            <a:off x="1258920" y="2420640"/>
            <a:ext cx="1512720" cy="115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5"/>
          <p:cNvPicPr/>
          <p:nvPr/>
        </p:nvPicPr>
        <p:blipFill>
          <a:blip r:embed="rId1"/>
          <a:stretch/>
        </p:blipFill>
        <p:spPr>
          <a:xfrm>
            <a:off x="395280" y="260280"/>
            <a:ext cx="3708360" cy="6408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SD3L"/>
          <p:cNvPicPr/>
          <p:nvPr/>
        </p:nvPicPr>
        <p:blipFill>
          <a:blip r:embed="rId2"/>
          <a:stretch/>
        </p:blipFill>
        <p:spPr>
          <a:xfrm>
            <a:off x="4716360" y="189000"/>
            <a:ext cx="4249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s 11"/>
          <p:cNvPicPr/>
          <p:nvPr/>
        </p:nvPicPr>
        <p:blipFill>
          <a:blip r:embed="rId1"/>
          <a:stretch/>
        </p:blipFill>
        <p:spPr>
          <a:xfrm>
            <a:off x="4788000" y="0"/>
            <a:ext cx="42894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rimum-ASD"/>
          <p:cNvPicPr/>
          <p:nvPr/>
        </p:nvPicPr>
        <p:blipFill>
          <a:blip r:embed="rId2"/>
          <a:stretch/>
        </p:blipFill>
        <p:spPr>
          <a:xfrm>
            <a:off x="25560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264276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incompatible with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disrupt the childʼ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efects are well tolerated until 2nd or 3rd decad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very small defects, so they do not have any hemodynamic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Figure 5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Primum-ASD-L-R-Shunt"/>
          <p:cNvPicPr/>
          <p:nvPr/>
        </p:nvPicPr>
        <p:blipFill>
          <a:blip r:embed="rId1"/>
          <a:stretch/>
        </p:blipFill>
        <p:spPr>
          <a:xfrm>
            <a:off x="539640" y="189000"/>
            <a:ext cx="766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 7"/>
          <p:cNvPicPr/>
          <p:nvPr/>
        </p:nvPicPr>
        <p:blipFill>
          <a:blip r:embed="rId1"/>
          <a:stretch/>
        </p:blipFill>
        <p:spPr>
          <a:xfrm>
            <a:off x="250920" y="260280"/>
            <a:ext cx="8243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1125360"/>
            <a:ext cx="74674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hemodynamically significant,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adequate treatment is sur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ically closing the defect before starting school or earlier (if pulmonary hypertension develops, intervention is no longer ind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tga_intact_vs_postop"/>
          <p:cNvPicPr/>
          <p:nvPr/>
        </p:nvPicPr>
        <p:blipFill>
          <a:blip r:embed="rId1"/>
          <a:stretch/>
        </p:blipFill>
        <p:spPr>
          <a:xfrm>
            <a:off x="5796000" y="3378240"/>
            <a:ext cx="2376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sd-closure-www-drsvenkatesan-com"/>
          <p:cNvPicPr/>
          <p:nvPr/>
        </p:nvPicPr>
        <p:blipFill>
          <a:blip r:embed="rId1"/>
          <a:stretch/>
        </p:blipFill>
        <p:spPr>
          <a:xfrm>
            <a:off x="285840" y="1125360"/>
            <a:ext cx="8172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nd approach of surgical and non-surgical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sd-closure-surgery1"/>
          <p:cNvPicPr/>
          <p:nvPr/>
        </p:nvPicPr>
        <p:blipFill>
          <a:blip r:embed="rId1"/>
          <a:stretch/>
        </p:blipFill>
        <p:spPr>
          <a:xfrm>
            <a:off x="3000240" y="2133720"/>
            <a:ext cx="2100240" cy="371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inimalinvasiv_vorhof"/>
          <p:cNvPicPr/>
          <p:nvPr/>
        </p:nvPicPr>
        <p:blipFill>
          <a:blip r:embed="rId2"/>
          <a:stretch/>
        </p:blipFill>
        <p:spPr>
          <a:xfrm>
            <a:off x="5572080" y="2884320"/>
            <a:ext cx="303228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mg_cardiac_open"/>
          <p:cNvPicPr/>
          <p:nvPr/>
        </p:nvPicPr>
        <p:blipFill>
          <a:blip r:embed="rId3"/>
          <a:stretch/>
        </p:blipFill>
        <p:spPr>
          <a:xfrm>
            <a:off x="468360" y="1592280"/>
            <a:ext cx="214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eptal occluders (without opening the chest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mages 8"/>
          <p:cNvPicPr/>
          <p:nvPr/>
        </p:nvPicPr>
        <p:blipFill>
          <a:blip r:embed="rId1"/>
          <a:stretch/>
        </p:blipFill>
        <p:spPr>
          <a:xfrm>
            <a:off x="3995640" y="2428920"/>
            <a:ext cx="4321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Nitinol-ASD-device-closure"/>
          <p:cNvPicPr/>
          <p:nvPr/>
        </p:nvPicPr>
        <p:blipFill>
          <a:blip r:embed="rId2"/>
          <a:stretch/>
        </p:blipFill>
        <p:spPr>
          <a:xfrm>
            <a:off x="395280" y="2276640"/>
            <a:ext cx="35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al occluders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elex"/>
          <p:cNvPicPr/>
          <p:nvPr/>
        </p:nvPicPr>
        <p:blipFill>
          <a:blip r:embed="rId1"/>
          <a:stretch/>
        </p:blipFill>
        <p:spPr>
          <a:xfrm>
            <a:off x="900000" y="2421000"/>
            <a:ext cx="657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mages 1"/>
          <p:cNvPicPr/>
          <p:nvPr/>
        </p:nvPicPr>
        <p:blipFill>
          <a:blip r:embed="rId1"/>
          <a:stretch/>
        </p:blipFill>
        <p:spPr>
          <a:xfrm>
            <a:off x="324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ages 9"/>
          <p:cNvPicPr/>
          <p:nvPr/>
        </p:nvPicPr>
        <p:blipFill>
          <a:blip r:embed="rId1"/>
          <a:stretch/>
        </p:blipFill>
        <p:spPr>
          <a:xfrm>
            <a:off x="0" y="189000"/>
            <a:ext cx="85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RL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from venous to the arteria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LR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od flow from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)-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Defects without </a:t>
            </a:r>
            <a:r>
              <a:rPr b="0" lang="sr-Latn-R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shunt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15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ventr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 triatriat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anomaly of coronary artery vessel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873000"/>
            <a:ext cx="8678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and therapeu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ASD_Verschluss"/>
          <p:cNvPicPr/>
          <p:nvPr/>
        </p:nvPicPr>
        <p:blipFill>
          <a:blip r:embed="rId1"/>
          <a:stretch/>
        </p:blipFill>
        <p:spPr>
          <a:xfrm>
            <a:off x="0" y="1714680"/>
            <a:ext cx="8172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images 4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bas"/>
          <p:cNvPicPr/>
          <p:nvPr/>
        </p:nvPicPr>
        <p:blipFill>
          <a:blip r:embed="rId1"/>
          <a:stretch/>
        </p:blipFill>
        <p:spPr>
          <a:xfrm>
            <a:off x="2576520" y="404640"/>
            <a:ext cx="566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ages 10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correctio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img_cardiac_open"/>
          <p:cNvPicPr/>
          <p:nvPr/>
        </p:nvPicPr>
        <p:blipFill>
          <a:blip r:embed="rId1"/>
          <a:stretch/>
        </p:blipFill>
        <p:spPr>
          <a:xfrm>
            <a:off x="3772080" y="2249640"/>
            <a:ext cx="4400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sunday-or-21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op na srcu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137_fig_4_med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ypass-Surgery"/>
          <p:cNvPicPr/>
          <p:nvPr/>
        </p:nvPicPr>
        <p:blipFill>
          <a:blip r:embed="rId1"/>
          <a:stretch/>
        </p:blipFill>
        <p:spPr>
          <a:xfrm>
            <a:off x="0" y="0"/>
            <a:ext cx="82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ages 6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0"/>
            <a:ext cx="8231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86821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closure-fig3"/>
          <p:cNvPicPr/>
          <p:nvPr/>
        </p:nvPicPr>
        <p:blipFill>
          <a:blip r:embed="rId1"/>
          <a:stretch/>
        </p:blipFill>
        <p:spPr>
          <a:xfrm>
            <a:off x="42840" y="9360"/>
            <a:ext cx="90583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mitral-fig7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gunner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live_photo2249470"/>
          <p:cNvPicPr/>
          <p:nvPr/>
        </p:nvPicPr>
        <p:blipFill>
          <a:blip r:embed="rId1"/>
          <a:stretch/>
        </p:blipFill>
        <p:spPr>
          <a:xfrm>
            <a:off x="0" y="115920"/>
            <a:ext cx="3851280" cy="655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alini"/>
          <p:cNvPicPr/>
          <p:nvPr/>
        </p:nvPicPr>
        <p:blipFill>
          <a:blip r:embed="rId2"/>
          <a:stretch/>
        </p:blipFill>
        <p:spPr>
          <a:xfrm>
            <a:off x="4284720" y="260280"/>
            <a:ext cx="424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s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woman-heart-surgery-scar"/>
          <p:cNvPicPr/>
          <p:nvPr/>
        </p:nvPicPr>
        <p:blipFill>
          <a:blip r:embed="rId1"/>
          <a:stretch/>
        </p:blipFill>
        <p:spPr>
          <a:xfrm>
            <a:off x="1908000" y="0"/>
            <a:ext cx="63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en_07f3b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asd-device-closure-4"/>
          <p:cNvPicPr/>
          <p:nvPr/>
        </p:nvPicPr>
        <p:blipFill>
          <a:blip r:embed="rId1"/>
          <a:stretch/>
        </p:blipFill>
        <p:spPr>
          <a:xfrm>
            <a:off x="250920" y="115920"/>
            <a:ext cx="7705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1619280" y="115920"/>
            <a:ext cx="568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 of membranous or muscular part of interventricular 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most common CH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60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osed spontaneusly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85520"/>
            <a:ext cx="74674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ngenital heart disease with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3" descr=""/>
          <p:cNvPicPr/>
          <p:nvPr/>
        </p:nvPicPr>
        <p:blipFill>
          <a:blip r:embed="rId1"/>
          <a:stretch/>
        </p:blipFill>
        <p:spPr>
          <a:xfrm>
            <a:off x="212760" y="1987560"/>
            <a:ext cx="86454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vsd"/>
          <p:cNvPicPr/>
          <p:nvPr/>
        </p:nvPicPr>
        <p:blipFill>
          <a:blip r:embed="rId1"/>
          <a:stretch/>
        </p:blipFill>
        <p:spPr>
          <a:xfrm>
            <a:off x="0" y="19810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vsd memb"/>
          <p:cNvPicPr/>
          <p:nvPr/>
        </p:nvPicPr>
        <p:blipFill>
          <a:blip r:embed="rId2"/>
          <a:stretch/>
        </p:blipFill>
        <p:spPr>
          <a:xfrm>
            <a:off x="4191120" y="1700280"/>
            <a:ext cx="4724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4866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400" y="1989000"/>
            <a:ext cx="4343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scul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 systolic murmur 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ICA, propagation in all di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left and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larged both 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heter from the right ventricle enters to the left ventricle and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28" descr=""/>
          <p:cNvPicPr/>
          <p:nvPr/>
        </p:nvPicPr>
        <p:blipFill>
          <a:blip r:embed="rId1"/>
          <a:stretch/>
        </p:blipFill>
        <p:spPr>
          <a:xfrm>
            <a:off x="4714920" y="242892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68086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def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lightly increased pulmonary blood flow) stays asymptomatic during whole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the development of pulmonary hyperten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uscular vessel between the descending aorta and the pulmonary artery which is needed in fetal life and in the postnatal period it closes normally for 15 min to 3 months of life (at first functionally, than anatom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nough vasoconstrictors an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ailure to close results in CHD with LR shunt (temporary pulmonary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ductus"/>
          <p:cNvPicPr/>
          <p:nvPr/>
        </p:nvPicPr>
        <p:blipFill>
          <a:blip r:embed="rId1"/>
          <a:stretch/>
        </p:blipFill>
        <p:spPr>
          <a:xfrm>
            <a:off x="684360" y="549360"/>
            <a:ext cx="66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9286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V hyper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larged LV, prominent arch of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st flow from aorta to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tion or cutting of the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perative mor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SINGLE CHILD WITH THIS DEFECT SHOULD NOT BE UNOPER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rtic coar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240" y="2143080"/>
            <a:ext cx="44146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triction of the lumen of the aorta in the region of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.arterio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 or in any other place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irculation in the distal part of the aorta is maintained by collateral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koarkt"/>
          <p:cNvPicPr/>
          <p:nvPr/>
        </p:nvPicPr>
        <p:blipFill>
          <a:blip r:embed="rId1"/>
          <a:stretch/>
        </p:blipFill>
        <p:spPr>
          <a:xfrm>
            <a:off x="4788000" y="1905120"/>
            <a:ext cx="3960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87080"/>
            <a:ext cx="8400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pancy in the development of the upper and lower extremities (hypertrophy of the upper and hypotrophy of the lower exstrem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pressure values measured at the upper exstremities and low blood pressure values measured at the lower exs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over the aort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ton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240" y="2571840"/>
            <a:ext cx="3335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 or hypertrophic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stenotic aortic dila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cath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koart CT"/>
          <p:cNvPicPr/>
          <p:nvPr/>
        </p:nvPicPr>
        <p:blipFill>
          <a:blip r:embed="rId1"/>
          <a:stretch/>
        </p:blipFill>
        <p:spPr>
          <a:xfrm>
            <a:off x="3708360" y="1714680"/>
            <a:ext cx="4952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 defect in any part between the arterial and venous system, the blood will always move from the area of higher pressure to the area where the pressure is l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pressure in the arterial system is higher, blood will move from the arterial system (oxygenated blood) to the venous system (reduced or unoxygenated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sion of the narrowed part of the aorta with terminoterminal s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surgical intervention-dilatation with stenting of the narrowed part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uscultatory finding in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4200" y="2287080"/>
            <a:ext cx="8786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nurmur over a. 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V ICA) propagating in all directions like overrun wheel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nel murmu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fall nois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0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9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thing is the end resu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3132000" y="1916280"/>
            <a:ext cx="28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29:08Z</dcterms:created>
  <dc:creator>Korisnik</dc:creator>
  <dc:description/>
  <dc:language>en-US</dc:language>
  <cp:lastModifiedBy>Violeta</cp:lastModifiedBy>
  <dcterms:modified xsi:type="dcterms:W3CDTF">2023-08-20T11:53:47Z</dcterms:modified>
  <cp:revision>219</cp:revision>
  <dc:subject/>
  <dc:title>Urodjene srcane mane</dc:title>
</cp:coreProperties>
</file>