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A913-AA05-42B6-ACCF-47D0158C9055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3CEE-BC3C-4988-BFD4-08C03251CAC8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0D5-B1B6-4A6D-94DA-F8AC4FB4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ACB-0744-4A37-88AD-03B4756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5A8-BCD7-47CB-A858-05527721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23C-CBEF-46F9-8420-0EAD938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696-BADE-4B72-80F1-1CEA964D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60A-19AB-4EC2-ABF4-BD814F54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02D-FA2A-4F2C-A54F-9FD7EA82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4FF-A15F-4558-888F-7BB8BB67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94B-C34B-4FC8-8196-3E519D7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659-8A44-4B89-9D80-EB59352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C34-D7E3-459B-98AA-AEBF5EFB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A43-D6F8-4977-8F5F-2F8D93FD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F6C2-AA0A-484A-ACED-88F30831E1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0234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19T17:25:28Z</dcterms:modified>
  <cp:revision>218</cp:revision>
  <dc:subject/>
  <dc:title>Urodjene srcane mane</dc:title>
</cp:coreProperties>
</file>